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77A-671C-4742-B77A-1E3BB011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D24-AFD0-40C8-8DFB-C061E237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4B6-E389-44F8-9DE6-9A492CED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D3A-F3E8-46FE-A883-0DF79F05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659-1A3E-4703-B847-B83DDEA1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CBA-A150-48A2-ACEA-1194507F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379-E4DF-42E8-AA0E-806C1B00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852-AB4F-49F2-9235-3E5FF569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D0C-71E4-4A97-B48C-CA440EEA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326-F568-498B-BC4B-E0546017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0DA-91CE-4824-BAB5-77D9018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D33-6103-45CB-8670-264ECE4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FD46-D439-44DD-90A5-E1260759D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ost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32763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va di utilizzo di Clip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2378160"/>
            <a:ext cx="380988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2625840"/>
          <a:ext cx="777240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25840"/>
                    <a:ext cx="777240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urati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ro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44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6:44:47Z</dcterms:created>
  <dc:creator>Pezzoni Sergio</dc:creator>
  <dc:description/>
  <dc:language>en-US</dc:language>
  <cp:lastModifiedBy>Pezzoni Sergio</cp:lastModifiedBy>
  <dcterms:modified xsi:type="dcterms:W3CDTF">2000-07-21T12:07:12Z</dcterms:modified>
  <cp:revision>7</cp:revision>
  <dc:subject/>
  <dc:title>Presentazione</dc:title>
</cp:coreProperties>
</file>